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3BE4-89B3-4AB6-80C0-1C8D6E4F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66E-D23B-45F3-B6A2-5CEDD8CC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7C0A1-8928-4C22-980A-3B4EB698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A36B1-A5E4-4A9B-AA9C-EFBB8181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4E6B0-F379-41AC-ADA4-AD46CA0B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2E5C8-3F0B-4109-88D6-97F77FF9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92C29-9A3E-43CF-950D-24D109C6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52C36-B6FD-49F5-9900-A2658809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69B6A-5ADC-4EC7-92D7-A63ED8AF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1209D-953D-464B-A65C-BAE0A7C4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68306-18E1-42C7-862D-83C42561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46021-0FF4-45EC-9103-22351CFE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D7B-0EB0-4997-8A2C-88629587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2D22E-4A1B-41C9-BC17-EB62B6F3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F70A6-3AE1-4CEE-BA10-1608F0D3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F5DC5-472B-4CC4-B2D5-946D27AD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4B010-C764-4072-A861-674F6A96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5B6AD-A2B4-49A5-9F6F-D68033C6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A7620-3571-45AB-92A0-C5B89A89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B0F47-5D52-4D11-9B4A-4BB4A351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80A0B-6B75-4DBD-8DFC-0BA8AE58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58456-57FC-4218-89C9-8A823F75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CD006-F9A1-4BF1-8D05-C48491B5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97B6-3257-4E70-B78F-E80F8722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A12B2-C269-4569-92A1-405839F7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7A01B-0741-4665-9594-3F0B5519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AE833-D61A-47DC-A9CE-AB719209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1F6C9-5EC8-4C77-B651-8A3DF028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FA3B7-FEC6-4838-A376-19B30DAB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2AC68-9284-4197-95AE-BEC9F78A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377BD-3C9E-4033-AC38-7B579218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EA56D-1DBA-4854-BBBA-E9A3B1F8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2D479-8321-4BC5-8D74-93FAF1A3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BEA59-6F5B-4F58-BF9F-49C842F8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9135-5A43-48AD-9F74-B8FF4612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6D2B6-8CA5-45B8-B893-EAAD7483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A6C58-5896-4B0D-B3BD-7CD85C1C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A111E-B77D-4F45-9DF5-49EB6B23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ECDB6-2D60-47E4-81A7-01782A35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E8887-F690-4237-86C0-681ECE87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5DF35-34C4-4162-9D9D-103F2378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65CE0-D1C2-4EAA-BEA9-BBCE2D88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E4DEE-DABD-4FD0-94D6-84B3B9DC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C8F65-B387-448D-A141-4C699472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95F43-A1C1-42C1-8A0E-3F3C26A8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EDEC-F301-4B83-B8D4-A8E4FE0F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5ED5F-A84C-4B5B-ADC4-F300AF5D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06667-C7AA-43DA-8452-D11605D1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12979-2284-442F-8967-6D9A0C70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CCA40-EDF9-4250-B79A-41E73038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BE165-F62F-405F-9F41-55F32729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52EC3-9D7C-461B-A88C-A7DD39AC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3B972-92B2-4329-9198-BCA1C5D9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04B0D6-FE85-4BD0-B0FC-5C7C467D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12EC87-143C-479F-8578-D2F82A71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12E884-C239-43E4-95BD-4606B0AD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7C65-AB77-4BCE-82D2-E1CD55F3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8D3EAD-DB55-406D-AD19-A2C59B47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728860-BB32-48F8-A648-C42AAF9C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3F9261-A371-475B-B0AC-7A580AF9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876A2-47A6-4FCE-AE24-B8CCAABD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232398-B741-43AF-A898-93631B78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413B99-D33F-4A99-8FD0-977EE9BF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62B8D9-73F6-4A34-8909-B457C94C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B38BD8-1762-49B6-A24B-3EAD1AF0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288F66-633F-4975-9300-3F6AD414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09A0D1-E9C2-4787-9554-F76D33A7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A575-22C4-4C5F-969E-02ED0DCF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5464DF-98AC-4B88-9CF6-7032F4C6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14EB8A-B056-4B62-9197-906002EA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C5F0EE-9173-4BEE-9ECD-ABF581C2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061BBB-6E80-45AD-828F-AA37E52F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8819FE-34AC-45F0-B5A0-E1E94C90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5F5ED5-8C5B-4E24-922D-3BC5571A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6A59EE-86B5-418B-A325-64F6F51A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158062-8B6D-4751-A252-9FD9D692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750DAF-FF2B-48AA-9CEB-3C55348A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3F13D6-4D71-4BA6-A912-800C7788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22DB-C9DA-45DC-A387-D93DD2F9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A57937-6E2B-481F-ACA3-FE4D357A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F3CD60-D022-4EDE-969C-44D36E4B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5A887D-D723-4C75-A645-0B772F64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E5F023-898C-433C-9C07-82AE46E7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486861-CB04-43DC-AE60-A7E1660E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EAFD06-7879-4107-A92F-3F8A007A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2E0A63-6212-40E8-B815-7CF478E1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0C6229-B21D-4089-80CD-6D0B7E8B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E3ED18-1823-4208-9A2B-1EC13DCA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5ED93B-0EA6-4C6D-9124-1A0AE233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5AA0-2694-460E-9B55-FCD77FA5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1AA506-3F46-465F-AB5F-DE5499B3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9F16A7-3514-48D3-AFF7-02F9A20A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C0AE11-F430-41C2-BD0D-B27123BE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A33EAA-5E2F-4200-81E6-828982A4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513E41-AE35-4919-A5BF-B506217F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786E2F-BEFB-47E6-9F93-F487C468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8F8381-FBDD-4BE3-B993-BA10A6E9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686C27-E05C-4CE4-8A47-CFC2F07E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51FC46-AC39-4900-9D95-68A8893B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91C7DA-559B-4F84-9B27-9CF300D7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5594-68AA-48DC-A01E-67D41B40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782204-8B93-49DA-9671-E56B9B97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CCA9CB-7BE1-48D8-9BA8-FAB41FE3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558C16-6884-428A-BE46-36368D8A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B64D18-8AA3-4487-BE36-91319BEC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5345E2-C299-4A76-91CE-EE0AACED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F01688-BF6C-435E-ABEE-E03AD84C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E6697C-E1AB-49D1-A98C-89072A51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7F2BBF-9F0F-4C50-A3FC-6710BEC4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C5A54D-2BFD-457F-9441-CF1CB560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4E0C6F-1B69-42B1-B34E-1C5E8C83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07EA-7E87-47E1-975D-9E2C378C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C688-8593-494A-849B-09A09FFB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6E8245-B262-4E48-88A3-B8FCF7BE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C54DC0-2212-4387-B49C-EC05B562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370CC4-9BB6-47D8-9F83-4D8D8517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2CA3E8-F1E0-410B-B6B9-3C4E3AC3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93D47A-6B00-4B6A-97CA-19A0E3D0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A041BD-BDD7-4600-9F0B-9DDA5617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294762-AE93-400B-9466-95E20A81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8B9E82-6189-4ED3-B739-7B43417B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074ECA-BA14-4871-9AB5-4500906F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C48FD9-3A8F-4D4E-A17E-83AD7D82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A07C-AC04-4E1E-8B40-EDB4DFFB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5A2EE0-FDF9-42AA-80AA-B88CBE09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84FBB3-B938-41E9-B762-49BC210C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5D561B-C756-409E-9801-2EB84DF2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F6A35B-5F2E-4C93-BF40-800BD30A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12C812-68A4-4325-AE32-685C109B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7F8685-0AEB-434A-8B86-F416328C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E9AC66-C264-4C02-822D-813D3868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A05AB0-8E22-4D56-BEC2-9AE2699F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C60568-B300-4060-95DF-753F9A18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F2C025-3934-480E-BE49-01EFD957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14C0-24C4-4304-B508-21FD5C2C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17F58F-FF27-4399-B093-95197A94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946BD9-9B74-4C4E-86B5-1495391B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C9F142-85DB-4A7B-BF2C-36C4376D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E1E1DA-D8DE-4F4E-9457-3F627F16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A2E707-0DD7-4760-BF43-0E92C71B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E35B94-1663-4377-A4CE-3555222C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1A4B4C-1A42-4593-8070-EBCC51BE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F276E0-590F-418B-B76A-1B327D10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10AF69-1EA7-4316-B13B-53B0FDBE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D84CA0-0011-4AD7-BF66-1180F216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EECB-2B9F-4F58-8C02-145D414E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03ABCF-0975-4354-A857-8D2D474A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CB697F-8ED3-4025-A29C-2E2FC685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FD518A-6672-4638-A271-31D63A57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FB7BD2-DADB-403C-8D0A-CE0B6133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976531-B724-4B76-B28F-513BF5CD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F6D2B0-2CD7-47B9-A97B-5DC7CC6D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2C255A-1069-4CB7-A6CC-15CA0D32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3FE247-3963-4E95-9E93-09B10116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93670D-870F-4609-8771-BC40D7D9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887660-7840-4CF1-B363-D4A5C5BB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7E65-6A3A-40CE-9BC0-6D8A98E0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E89B47-6444-407E-B1DE-4DE55D21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4E2ACE-069A-4AFC-A6A1-39D75080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33F6AA-2963-4BA9-9CB9-8023921A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460F0B-1AD1-4F66-940C-5F0FF41D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0D944B-6458-4F24-9380-E012C3C2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109FFF-C6AC-4928-9644-2180669B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92E858-9EF4-4C59-AE6C-9F726DCA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E7D32C-EDCE-40AA-8B27-9CEF9386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1BC0A3-F534-4889-9A77-FFAA3075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9C68A2-0409-4C10-A386-22EABC0E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99D05-9689-4581-A7B7-28F7028E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AA76E1-0B7F-421E-826F-B3B91973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D20E17-56AC-4675-8097-FF8E915C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F1313A-FBAC-440F-B7A1-41FB0A13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C6B69-439B-4E1E-B643-EE57AA9E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090CD-F3CA-4248-854B-69090EA3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EC4C6-1ED5-4FA2-BF46-79852D76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A6A9C-A300-4FB5-985F-3CAB5D50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9630-BA4D-4728-BCBE-CCE7FE50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80C01-C563-4274-97E2-05B6E313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9FA24-9E77-47B4-A875-D94B55BE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53F3C-D2F1-4A1F-829F-D97854D2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39C89-8858-4C1F-997C-CCCC94B8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A7B69-2F28-454B-99F9-735C5289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6F9A3-8948-4E64-9973-779F70EE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DC138-4C87-4221-A4EC-9B83931F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F1140-AAFA-43DD-B545-4EC6C0E6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93F9D-6CAB-45E5-A9A8-A7AD4840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A362E-7C1C-4AE8-BE84-13AB090A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819F-D45D-4A80-8DF8-BD0E522A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5C419-9EE4-43B1-8B44-D6D39EA3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28F57-9F0B-42C6-B791-275B64CD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DA7FB-DEA4-44A1-9A2D-071D6F2D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20F03-F114-48BC-AF4C-1CCCABD5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542EC-9910-474A-BED6-77CEF0F2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00291-50FB-4983-8290-2BEED7EE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9B804-170C-4BB9-90FD-6F5CA7D8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9675A-0441-4E28-8B22-A68E5913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5D8FC-B40A-4E75-A8F1-3C653023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294A5-982C-4A12-ACA2-BE0EEB77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C160-5531-4716-A9C9-CC5A02AB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0AFC1-1390-413B-AF50-9CB0008C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5E520-B41C-4273-AC8A-80DD0E3A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7C2AB-2BBF-4887-9488-3AA7820E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BC1C7-9395-4407-9B0E-84A88247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39879-1C20-44F9-8136-C3B0B619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F65F2-674A-46B1-A8DD-6FBC4199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27077-FD59-448A-BF4D-39911010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C5C16-F939-4A89-8E1A-9FD20EB7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5AB24-BA48-4D27-B380-D16C07CC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31E4C-2D4B-4D6A-AC25-4E57970A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B56-9E5B-42DC-B5C4-A18CD00B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8EA63-EBE5-4A83-9CE3-E46CFA84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689E7-195F-486B-9FBB-19881557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E1456-A3C3-43EA-81E5-5CB05331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99BA0-6A63-410E-BECD-5EF5E7F2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21C0D-86F9-43D7-9D08-11FEE069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15DC7-1648-45DD-A610-C6897224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4431A-DE75-47B0-8EFA-F9A570E1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167EB-FEAF-4C25-9B20-495CD8A6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24250-C3D4-4AB6-AF4F-98373E43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5211D-9749-4CEF-9215-326BB673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C92A-BD19-4FDA-8A58-F0CFAE8C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11DCE-621C-40AE-846F-8CB5F55C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31BB3-D942-4F9E-8E11-A2CCA549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2963E-C2E5-416F-9519-E9F503D9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99EA5-0F62-4D87-9166-45388DE3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86661-1F94-46AE-BDDE-31CD8865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99A23-86F9-4883-9300-98149765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658EA-21D3-437D-BD8D-16F225AA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B9930-4A02-47C7-8508-A650642D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A50A2-51DA-4514-95CE-7D6CBF30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1339A-CB8A-43CA-9061-FD90CD4C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6DE-668B-4225-9D3D-9AB3219B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40D36-2DD2-4C0E-BEFB-D8689BAC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12E69-3978-4151-A6CE-8A353CCD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1442E-C1A8-4239-B842-1D7C9C27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17107-77C5-468F-8FA7-F1619028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10487-FE79-4C99-A8EF-E5DF24A8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9493B-81B0-4982-91D9-BDFDE0AB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0656D-D398-41C2-B6A0-CDC60D4D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8D2AE-8F96-47DE-A623-F77688CC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F0E44-8F6E-4892-91C7-F488E839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F6DA6-5550-486A-8881-E7A13831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02CC-3868-420E-81A5-6EAC960D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F83A9-4126-4030-B253-96BA7D55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A12DD-01F7-42A7-BD4E-6F476A3C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1CD1A-ACC1-463E-8868-19D8D809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9A98C-5B0B-4034-BB31-D69B5E9F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105AA-5086-4468-A7DD-E60B951C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CC625-06A5-4C5A-8403-9E83E7AA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EE046-E784-41F3-928B-F2ACC023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22F1C-ED15-4553-BFB9-52F78CF9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8DBA2-1120-489F-B505-29365E6D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1516C-5D2A-494C-964D-E5A96335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9FF8-E363-456C-925F-FDDE9CD2A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3F88-CF24-4CB7-90B6-E4BB7523AE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1B01-0E87-49D6-AB14-2D6CFE7914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340E-BBFE-4A4E-A21F-40D8D0AC63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3A3E-1CE8-4641-8FE8-3AAAF19534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B52C-676C-4B9D-BD5F-523F84EEC9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B9CA-7AF6-434C-A74B-23586BABA6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A933-D81C-45ED-9F0A-99324357E9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85E8-BCB2-40C9-8BA1-7D288B1105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67C5-D9D7-4B4A-B5A8-7EB99E9D7C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5809-542F-453B-9C16-6AD12E5671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BC8D-1D22-48D6-B190-DBD2A0D29A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9B66-C966-46BA-80E9-CD35B8C3E3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BC90-E688-44E4-8BD2-7C64F17723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90D0-09AE-42E5-B016-BD1EE1BAAC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41D0-514F-4A86-91DA-EE928C7367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C3FF-FC7B-463D-8B70-FE652DCD9B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8A1F-B7EF-4377-8147-D884ED60CE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A519-9C88-4693-B5F0-FDEB4CFAC1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B949-99F3-4A81-999E-8D0749A467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F30B-9CF1-4635-AD3A-E9347537B8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7F23-7AE8-4F51-ADEE-B222294BBD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5604-A758-4A80-8126-3DCDE58DD3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C17F-AAB2-497D-B9B9-2B48AEAD19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81EC-77EB-465C-B0F0-E52778428A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3566-E905-474B-A008-7F891BCDC4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F800-1B52-49AF-B06E-381E8ABA9E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F5B3-C0B9-4BB1-B05B-C61E10D07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9E66-09A7-41EE-9019-1CA9AD0E4B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29D1-0F48-41F5-8175-78353EB375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CCB6-E810-4092-8F41-3A7B19FF5F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C1D1-8FD5-4BB8-B585-B02D355243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35F1-0FDD-4CCD-A9CD-CC62AEC526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2257-3605-4415-AABA-9D9D39CA58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29AC-BEA2-40B0-A9E0-2C649C40D6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49CA-BC24-4080-B37E-6329E5C821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F797-EAA2-498F-9624-3829918EA4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5E63-C78E-4BC3-8194-47C637BF21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FDC4-54B0-425E-83AD-80408239F7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D89C-34AA-4A0F-82CF-2AF40F2825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685960" y="3048120"/>
            <a:ext cx="3772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2" descr=""/>
          <p:cNvPicPr/>
          <p:nvPr/>
        </p:nvPicPr>
        <p:blipFill>
          <a:blip r:embed="rId2"/>
          <a:stretch/>
        </p:blipFill>
        <p:spPr>
          <a:xfrm>
            <a:off x="523800" y="852480"/>
            <a:ext cx="8096400" cy="58276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258920" y="1341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258920" y="2219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303200" y="3141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303200" y="4076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258920" y="4941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1258920" y="58770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147600" y="919080"/>
            <a:ext cx="8847000" cy="5019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826920" y="15289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826920" y="2421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826920" y="3371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826920" y="4221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6"/>
          <a:stretch/>
        </p:blipFill>
        <p:spPr>
          <a:xfrm>
            <a:off x="826920" y="5157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23760" y="1332000"/>
            <a:ext cx="9094680" cy="160020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2" descr=""/>
          <p:cNvPicPr/>
          <p:nvPr/>
        </p:nvPicPr>
        <p:blipFill>
          <a:blip r:embed="rId2"/>
          <a:stretch/>
        </p:blipFill>
        <p:spPr>
          <a:xfrm>
            <a:off x="509760" y="3016080"/>
            <a:ext cx="8608680" cy="21146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826920" y="2262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5364000" y="2219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798480" y="3327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5292720" y="3357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7"/>
          <a:stretch/>
        </p:blipFill>
        <p:spPr>
          <a:xfrm>
            <a:off x="755640" y="4437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8"/>
          <a:stretch/>
        </p:blipFill>
        <p:spPr>
          <a:xfrm>
            <a:off x="5248440" y="42210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图片 1" descr=""/>
          <p:cNvPicPr/>
          <p:nvPr/>
        </p:nvPicPr>
        <p:blipFill>
          <a:blip r:embed="rId1"/>
          <a:stretch/>
        </p:blipFill>
        <p:spPr>
          <a:xfrm>
            <a:off x="17640" y="1654200"/>
            <a:ext cx="9108720" cy="35496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1403280" y="3227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3059280" y="3227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4"/>
          <a:stretch/>
        </p:blipFill>
        <p:spPr>
          <a:xfrm>
            <a:off x="4932360" y="3227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5"/>
          <a:stretch/>
        </p:blipFill>
        <p:spPr>
          <a:xfrm>
            <a:off x="6588000" y="3227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6"/>
          <a:stretch/>
        </p:blipFill>
        <p:spPr>
          <a:xfrm>
            <a:off x="8388360" y="32130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图片 1" descr=""/>
          <p:cNvPicPr/>
          <p:nvPr/>
        </p:nvPicPr>
        <p:blipFill>
          <a:blip r:embed="rId1"/>
          <a:stretch/>
        </p:blipFill>
        <p:spPr>
          <a:xfrm>
            <a:off x="604800" y="1000080"/>
            <a:ext cx="7932600" cy="48578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2"/>
          <a:stretch/>
        </p:blipFill>
        <p:spPr>
          <a:xfrm>
            <a:off x="1317600" y="1557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1332000" y="2421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4"/>
          <a:stretch/>
        </p:blipFill>
        <p:spPr>
          <a:xfrm>
            <a:off x="1332000" y="3284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5"/>
          <a:stretch/>
        </p:blipFill>
        <p:spPr>
          <a:xfrm>
            <a:off x="1332000" y="4149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6"/>
          <a:stretch/>
        </p:blipFill>
        <p:spPr>
          <a:xfrm>
            <a:off x="1332000" y="50133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1" name="图片 1" descr=""/>
          <p:cNvPicPr/>
          <p:nvPr/>
        </p:nvPicPr>
        <p:blipFill>
          <a:blip r:embed="rId1"/>
          <a:stretch/>
        </p:blipFill>
        <p:spPr>
          <a:xfrm>
            <a:off x="399960" y="1962000"/>
            <a:ext cx="8344080" cy="29340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2"/>
          <a:stretch/>
        </p:blipFill>
        <p:spPr>
          <a:xfrm>
            <a:off x="1116000" y="2363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3"/>
          <a:stretch/>
        </p:blipFill>
        <p:spPr>
          <a:xfrm>
            <a:off x="1116000" y="2852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4"/>
          <a:stretch/>
        </p:blipFill>
        <p:spPr>
          <a:xfrm>
            <a:off x="1116000" y="3284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5"/>
          <a:stretch/>
        </p:blipFill>
        <p:spPr>
          <a:xfrm>
            <a:off x="1116000" y="36734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6"/>
          <a:stretch/>
        </p:blipFill>
        <p:spPr>
          <a:xfrm>
            <a:off x="1116000" y="4149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7"/>
          <a:stretch/>
        </p:blipFill>
        <p:spPr>
          <a:xfrm>
            <a:off x="1116000" y="455148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3:20:18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